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C1E-8AED-4079-84CC-ECC238F9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FA3-5E2C-4E01-8BBE-66FF8D78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F47-AB38-4AC1-A6DF-4746C43B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190-5871-4614-9039-910FEBAD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B53-DBC3-4C86-BE9C-6B919FD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F5F-2474-49E9-9A19-0C5777C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140-2923-4695-8D0A-B3AFE589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FB2-321D-413A-AF48-274F653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FDD-C660-49CE-9794-D48E667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DC5-9EBC-4038-A4C5-87FAACE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F7-5630-4590-86FF-CFA5FB1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087-557E-4AC4-8AEB-06836BD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39F9-D301-496F-AFD4-E7B3A31B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SPECTOS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ÍSICOS DO JAP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06436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levo japonês caracteriza-se pelo domínio de dobramentos modernos,que ocupam a maior parte do país e são marcados por uma intensa atividade vulcânic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551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18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400" spc="-1" strike="noStrike">
                <a:solidFill>
                  <a:srgbClr val="ff0000"/>
                </a:solidFill>
                <a:latin typeface="Comic Sans MS"/>
              </a:rPr>
              <a:t>HIDROGRAFIA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drografia do Japão é composta por rios de curta extensão e de curso muito acidentado. Os principais rios japoneses são: Ishikari, Shinano e 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Century Gothic"/>
              </a:rPr>
              <a:t>Fim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apã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Vi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po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Satél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70200" y="404640"/>
            <a:ext cx="5473800" cy="645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runo de Azeved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a Caroline Oliveira Gome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renda Maria Pereira de Mato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cos Kelvin Grande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sa Nathalia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 ano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Comic Sans MS"/>
              </a:rPr>
              <a:t>CLIM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ã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regido pela massa de ar mais quente do mundo: a massa de ar do Pacífico n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200720" cy="436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er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Japão sofre influência das mais frias massas de ar do mundo: a massa de ar da Sibéri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508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nte a estação d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Japão é embelezado pelas cerejeiras em flor, a flor nacional do Jap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351640" cy="501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é a estação ideal para agradáveis excursões, com seu ar saudável, céu sereno e ar fresc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515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VEGETAÇÃ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os tipos de vegetação crescem nas várias regiões do país, devido ao fato de seu território incluir regiões pertencentes às zonas subtropicais, temperada e fria, e possuir água em abund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RELEV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0:57:56Z</dcterms:created>
  <dc:creator>ESCOLA FILINTO</dc:creator>
  <dc:description/>
  <dc:language>en-US</dc:language>
  <cp:lastModifiedBy>ESCOLA FILINTO</cp:lastModifiedBy>
  <dcterms:modified xsi:type="dcterms:W3CDTF">2009-10-29T16:11:10Z</dcterms:modified>
  <cp:revision>3</cp:revision>
  <dc:subject/>
  <dc:title>ASPECTOS FÍSICOS DO JAPÃO</dc:title>
</cp:coreProperties>
</file>